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E63-42A0-4D1A-8A37-34AA14D4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306-A33B-4089-95AA-BD305EA0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C6D-CA83-4A4A-A2F4-5D733CD0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84E-AB60-4E26-9AAA-57DE5D8C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6F6-364E-4848-A63F-5AAFADA7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D66-D817-46A3-A246-ACC7FDED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47B-5D4A-42F2-B91B-EDB8AFE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79B-A0ED-45C7-9C18-3A247BA2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545-22B7-438C-B871-37F5AFFD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D3C-85F8-422B-87AF-0EF115B5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AB8-6F52-4FA4-878C-C79F140B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D79-86CF-48AD-A294-DE08DFAE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5CF9-A729-494D-B077-DEA311696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6360" y="1994040"/>
            <a:ext cx="3883320" cy="3390840"/>
          </a:xfrm>
          <a:custGeom>
            <a:avLst/>
            <a:gdLst/>
            <a:ahLst/>
            <a:rect l="l" t="t" r="r" b="b"/>
            <a:pathLst>
              <a:path w="2446" h="2136">
                <a:moveTo>
                  <a:pt x="664" y="0"/>
                </a:moveTo>
                <a:lnTo>
                  <a:pt x="0" y="1080"/>
                </a:lnTo>
                <a:lnTo>
                  <a:pt x="600" y="2136"/>
                </a:lnTo>
                <a:lnTo>
                  <a:pt x="1832" y="2136"/>
                </a:lnTo>
                <a:lnTo>
                  <a:pt x="2446" y="1080"/>
                </a:lnTo>
                <a:lnTo>
                  <a:pt x="1822" y="4"/>
                </a:lnTo>
                <a:lnTo>
                  <a:pt x="664" y="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d6cd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01360" y="135000"/>
            <a:ext cx="5613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exagon in a 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22200" y="1773360"/>
            <a:ext cx="3888000" cy="38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11360" y="3284640"/>
            <a:ext cx="1378080" cy="792000"/>
            <a:chOff x="2511360" y="3284640"/>
            <a:chExt cx="1378080" cy="792000"/>
          </a:xfrm>
        </p:grpSpPr>
        <p:sp>
          <p:nvSpPr>
            <p:cNvPr id="45" name=""/>
            <p:cNvSpPr/>
            <p:nvPr/>
          </p:nvSpPr>
          <p:spPr>
            <a:xfrm>
              <a:off x="2511360" y="3716280"/>
              <a:ext cx="137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165480" y="32846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222200" y="2421000"/>
            <a:ext cx="1943280" cy="129528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017400">
            <a:off x="161640" y="1890360"/>
            <a:ext cx="1943280" cy="129564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 rot="3582600">
            <a:off x="163440" y="4227840"/>
            <a:ext cx="1942920" cy="129528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70080" y="749160"/>
            <a:ext cx="1943280" cy="129564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 rot="18017400">
            <a:off x="4203000" y="4242240"/>
            <a:ext cx="1942920" cy="129528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rot="3582600">
            <a:off x="4204080" y="1882800"/>
            <a:ext cx="1943280" cy="129492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158920" y="5411880"/>
            <a:ext cx="1943280" cy="129528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708360"/>
            <a:ext cx="939600" cy="1689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58920" y="5397480"/>
            <a:ext cx="1955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14800" y="3708360"/>
            <a:ext cx="977760" cy="1689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079520" y="1999800"/>
            <a:ext cx="1012680" cy="1708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260440" y="1996920"/>
            <a:ext cx="1828800" cy="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06360" y="1994040"/>
            <a:ext cx="1054080" cy="1714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58080" y="100332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. Draw a circle with a com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2120" y="2058840"/>
            <a:ext cx="288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2. Use the compass still set to the radius of the circle to mark of the radius distance around the circumference of the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22880" y="376092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3. Join up the marks to form a hex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075040" y="1887120"/>
            <a:ext cx="1886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03400" y="5268960"/>
            <a:ext cx="21744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0960" y="5240160"/>
            <a:ext cx="24768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962520" y="1887480"/>
            <a:ext cx="1886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862520" y="371628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01880" y="3716280"/>
            <a:ext cx="56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8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4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6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8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2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4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2:01:55Z</dcterms:created>
  <dc:creator>gcheetham</dc:creator>
  <dc:description/>
  <dc:language>en-US</dc:language>
  <cp:lastModifiedBy>gcheetham</cp:lastModifiedBy>
  <dcterms:modified xsi:type="dcterms:W3CDTF">2007-09-06T02:38:09Z</dcterms:modified>
  <cp:revision>2</cp:revision>
  <dc:subject/>
  <dc:title>Hexagon in a circle</dc:title>
</cp:coreProperties>
</file>